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FEC-6EF6-4154-938B-F7F3DF44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AA7-E8BE-4A1A-9907-F9238DB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9D9-BA60-4489-B000-B11AC178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5B4-9F44-4D4F-A1AF-40E3D1CD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092-993E-46A2-8AA1-0AD7D961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66B-19FC-48B0-AEFE-7B4F9176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FD3-2737-4BBA-A889-3387CEA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339-E211-4275-8EB4-966F5B5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982-B9BC-4609-8DC6-A034ECF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C90-8564-4329-9C21-2C97110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BC7-98A8-4C58-9CD6-1D753A77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B4A-9452-4CE1-AEC7-FB22399E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3D8-0AA8-4F4A-9869-4386F412E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e F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ody Urciuoli and Jackie Lato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newsimg.bbc.co.uk/media/images/41725000/jpg/_41725840_xdesk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name was Annelies Marie Fra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June 12, 19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in concentration camp in 1945 of typ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08640"/>
            <a:ext cx="167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sweetney.com/.a/6a00e550896a818833011570fd381f970b-800w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D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iary entry was on June 12,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entry was on August 1,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rote the diary from 1942 to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y was published in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published her diary to show what happened during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ew novels during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08640"/>
            <a:ext cx="1447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foxnews.com/images/272467/0_61_anne_frank_1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sterdam office and ware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 and Mom sister, and four other friends hid with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arrested by the Nazi’s then moved to Beren-Belsen Concentration camp in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396000">
            <a:off x="7619760" y="3962520"/>
            <a:ext cx="1276200" cy="255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495000">
            <a:off x="7009920" y="646128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channels.nl/amsterdam/annefran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4876920"/>
            <a:ext cx="2361960" cy="1143000"/>
          </a:xfrm>
          <a:prstGeom prst="rightArrow">
            <a:avLst>
              <a:gd name="adj1" fmla="val 50000"/>
              <a:gd name="adj2" fmla="val 5166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5181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Franks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ed reading and writing when yo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in a mix neighborhood of Jewish and Christian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relationship with her si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topic to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few survivors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 in her dads work place with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Alison Leslie. "Frank, Anne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ld Book Stud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ld Book, 2009. Web. 4 Dec.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Diary of Anne Frank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ld Book Stud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ld Book, 2009. Web. 10 Dec. 2009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47:42Z</dcterms:created>
  <dc:creator>20869</dc:creator>
  <dc:description/>
  <dc:language>en-US</dc:language>
  <cp:lastModifiedBy>20869</cp:lastModifiedBy>
  <dcterms:modified xsi:type="dcterms:W3CDTF">2010-01-19T15:52:47Z</dcterms:modified>
  <cp:revision>15</cp:revision>
  <dc:subject/>
  <dc:title>Anne Frank</dc:title>
</cp:coreProperties>
</file>